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9B2-6FF3-49D0-8616-B427695B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698-FF80-4A17-9477-FABB8A6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6FC-C9B9-429F-A352-22688941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178-C880-40F8-9A9D-8363404E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E93-01AC-4F7E-B1EA-8EA58EE9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52D-655C-4CE3-88E5-5CAA104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D07-CD2F-4B40-802A-A6C92D8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97B-601A-4DBC-825A-9C21BB1A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810-F2B5-4EB8-85BA-9D5C9C49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560-5747-4B96-A60D-7C4302C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735-F1BD-4F07-96EB-9175DE8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320-39CB-4BEE-B259-B49FB3A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6CBE-18A0-4C3B-9F1B-36099E0A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colt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860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lt Revolv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58672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510552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sta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7/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5486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8039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ll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2/8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257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Sam C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Colt"/>
          <p:cNvPicPr/>
          <p:nvPr/>
        </p:nvPicPr>
        <p:blipFill>
          <a:blip r:embed="rId1"/>
          <a:stretch/>
        </p:blipFill>
        <p:spPr>
          <a:xfrm>
            <a:off x="1523880" y="1447920"/>
            <a:ext cx="274320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533520"/>
            <a:ext cx="2361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ilson MIT, Sam Colt, 12/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ol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2578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562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 Colt created the Colt Rev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lt Rev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t revolver began in 1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t revolver could fire multiple times with out re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Colt had also created several other rev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nvented the belt to hold revolvers in so men and woman could conceal the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t revolver could hold six rounds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Sam C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olt was born July 19,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ge 15 he set off on a boat to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36,at age of 22,Colt obtained a U.S. pantent for the Colt Rev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olt studied chemistry to make this fire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8 colt reastablished his facility in Hart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5:30:46Z</dcterms:modified>
  <cp:revision>12</cp:revision>
  <dc:subject/>
  <dc:title>Slide 1</dc:title>
</cp:coreProperties>
</file>